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489-1CFB-40F2-98AA-FD3FCC2D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646-1A47-43D0-B9FA-2AC502C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A8C-386C-403D-B283-69DCAF5A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D62-9986-4BC5-AEDC-BB42E121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192-4581-458C-8977-FCA9BDCB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90C-A50F-4BFD-849B-8EB3E3FE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AD5-C3A8-4EE8-B94B-C8558C8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DEB-C5E7-485D-949A-9A55F2D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0F7-2FE1-41DE-A707-6C4303AC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7D8-A0D0-4343-842B-3ADC4C0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CCF-219D-4BA7-B9B6-BCA720D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A3B-15BF-42F8-AC01-AB4BBB9A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8A46-D2AB-4451-B4AB-AB6E1E6A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609480"/>
            <a:ext cx="51051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Controlling Information Systems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Introduction to Internal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3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k vs. Exposure (Cont.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, you recommend that the company install a sprinkler system with a 5-year annualized cost (net present value) of $10,000 each year to install and maintai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of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t this point you might be tempted to say that the compan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dual expected 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st increased to –$41,000 (–$31,000 – $10,000), but wait! The sprinkler system lowered the likelihood of a damaging fire from 5 to 2 percent. In conjunction with this lower probability, the insurance company agreed to increase its coverage to $30,000 while holding the annual premium constant at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dual exp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osure is –$1,000, calculated as follows: Expected gross risk (–$20,000 or –$1,000,000 × 0.02) plus the insurance policy ($30,000) equals a gain of $10,000, but we must subtract the insurance premium ($1,000) and the sprinkler system ($10,000), leaving the residual expected risk at –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CE4-FDAB-4D3C-892F-B612196312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esponse (4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risky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likelihood o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&gt; Benefits of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in place to make sure Risk Response are carri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E9D-0743-4C62-A682-DCB37F6994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apture and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Decision Makers can carry ou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overall ERM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C54-7116-426C-A053-1DD58DCF2B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Internal Contro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5240"/>
            <a:ext cx="868680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ition of Internal Contro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8760" y="1454040"/>
            <a:ext cx="8750160" cy="486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AS 78 (1995) - adopted COSO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AL CONTROL is a process-effected by a an entity’s board of directors, management, and other personnel-designed to provide reasonable assurance regarding the achievement of objectives in the following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ectiveness &amp; efficienc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iability of financial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iance with applicable laws &amp; reg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0D6-22AD-4799-B20A-B33D1D1367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472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ive Interrelated Components of Internal Contro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5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rol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ne at the top, the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sk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dentification/analysis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ro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ormation &amp;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 processing of info in a form and time frame that enables people to do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ocess that assess quality of internal control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DA2-5388-45EE-A954-A16DC7EBCD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SO Report, SOA, and SAS 9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tion addressing implementation of the Sarbanes Oxley Act section 404, the SEC used the COSO description of intern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ent on to say that management must base its evaluation of the effectiveness of its internal control system on a framework such as 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O report stresses internal control is a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mentary perspective on internal control is found in Statement on Auditing Standards (SAS) 94, entitled “The Effect on Information Technology on the Auditor’s Consideration of Internal Control in a Financial Statement Audit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ndard guides auditors in understanding the impact of IT on internal control and assessing IT-related control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, SAS 94 highlights how IT can be used to strengthen internal control, while at the same time emphasizing how IT can actually weaken som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F02-FC29-4D6B-922E-87E433AA03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ent Internal Control Legisl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banes-Oxley Act (SOA) of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public company accounting oversight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ccountability for company officers and 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white collar crime 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ts audit firms from providing design and implementation of financial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BF5-EF98-4006-AFC5-50A5D4ABF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rbanes-Oxley Act of 2002 (SOA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02—CEOs and CFOs must certify quarterly and annual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404—Mandates the annual report filed with the SEC include an internal control report by management wh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ignifica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of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Key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ey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191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495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G 54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7BE-721A-4CB1-8627-11CAB93210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71840" y="609480"/>
            <a:ext cx="251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Outline of SOA 2002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75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68C-E586-473C-A66D-78A565F820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eight elements of COS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erprise Risk Management—Integrated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at management employs internal control systems as part of organizational and IT governance initi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internal control systems assist organizations to achieve objectives and respond to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fraud, computer fraud, and computer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e control goals for operations and information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jor categories of control p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E89-2239-4365-8F64-2DCCFCCFE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8400" y="88560"/>
            <a:ext cx="774720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raud and its Relationship to Contro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594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d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iberate act or untruth intended to obtain unfair or unlawful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charged with responsibility to prevent and/or disclose fra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ystems enable management to do this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responsible to provide internal control system per the Foreign Corrupt Practices Act of 1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102 of the Sarbanes-Oxley Act specifically addresses corporate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s of fraud undermine management’s ability to convince various authorities that it is upholding its stewardship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75A-10EB-402F-8A34-B59A35715A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S 99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ing profession too has been proactive in dealing with corporate fraud, as it has launched an anti-fraud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anifestations of this initiative is Statement on Auditing Standards (SAS) Number 99, entitled Consideration of Fraud in a Financial Statement Aud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99 has the same title as its predecessor, SAS 82, but the new standard is much more encompassing than the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, SAS 99 emphasizes brainstorming fraud risks, increasing professional skepticism, using unpredictable audit test patterns, and detecting management override of internal 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6E4-5120-43FD-A4CA-4F7F6530D1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&amp;Y Fraud Surve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 % of fraud committed by company ins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55% of perpetrators were management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aud in less-develop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bout 20 % of fraud comes to the publ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40% of frauds are known to the public, 20% are kept confidential, and the other 40% are not yet dis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evention is internal control, management reviews, and internal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1 fraud worry to executives is asset misapprop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2 fraud worry to executives is computer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rganizations now have formal fraud prevention policies including codes of corporate governance and employee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fraud prevention techniques are internal controls, management reviews, and internal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33A-9096-4543-A918-67B57F842D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70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linas and Dull Working Definition of IC: Key Poi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of internal control is not an end in itself. Rather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ns to an 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end of attaining proces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 itself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like any system it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have clearly defined go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consist of interrelated components that act in concert to achieve those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lso say that internal control i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 viable internal control system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agement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of any internal control system is largely a function of the people who operat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 cannot be expected to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00% assurance that the organization will reach its objectives. Rather, the operative phrase is that it should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sonable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 is not free; controls should be built in and 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DE2-B2EF-4790-8592-2B151D6CC6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06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linas and Dull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rking Definition of I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369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integrated elements - people, structure, processes, and procedures - acting in concert to provide reasonable assurance that an organization achie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siness proc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. The design and operation of the internal control system is the responsibility of top management and therefore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768-0A8E-4F65-9008-06B2DC298A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5240" y="88920"/>
            <a:ext cx="888984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Text definition of IC cont.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2280" y="1530360"/>
            <a:ext cx="775944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 management’s careful assessment of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based on management’s evaluation of costs versus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built on management’s  strong sense of business ethics and personal integ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B8E-CAC1-41F6-8C5F-B30F31B57A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8400" y="165240"/>
            <a:ext cx="774720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Ethics and Control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7360" y="1295280"/>
            <a:ext cx="836928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O report stresses ethics as part of control environment (tone at the 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CPA has built ethics issues into CPA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e of Management Accountants has a code of ethics which is also tested on both the CMA and CFM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Auditing has ethics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rporations have developed Codes of 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128-9268-457E-9C49-243B97DBE7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usiness Process Control Goal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rol Go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nds to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oals of operation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oals of informa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able 7.1 Control Goals (page 2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9EC-28B7-40D7-ADE2-AEEE6638F8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65240"/>
            <a:ext cx="85341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the Operations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360" y="1530000"/>
            <a:ext cx="8369280" cy="45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effectiveness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s achieving it’s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efficient employment o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&gt;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security o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422-6C6B-4226-A900-F91B277D42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" y="88920"/>
            <a:ext cx="881388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Operations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74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sure effectiveness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success in meeting one or more operations process goals which reflect the criteria used to judge the effectiveness of various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Deposit cash receipts on the day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sure efficient employment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the productivity of the resources applied to achieve a set of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What is the cost of people, computers, and other resources to deposit cash on the day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sure securit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ng an organization’s resources from loss, destruction, disclosure, copying, sale, or other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cash and information resources available when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y put to authorized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578-A184-4763-A8C0-2C6530612C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8400" y="164880"/>
            <a:ext cx="77472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Why  do we need controls?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454040"/>
            <a:ext cx="775944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to provide reasonable assurance that the goals of each business process are being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to mitigate the risk that the enterprise will be exposed to some type of harm, danger, or loss (including loss cau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u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other intentional and unintentional a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to provide reasonable assurance that the company is in compliance with applicable legal and regulatory oblig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E8C-1A78-4DB3-9500-39DC09396D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the Information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60160"/>
            <a:ext cx="830592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business event inpu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n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valid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complet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aster dat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n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complet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C63-B75C-45AB-94D9-7C6B95C004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5760" y="88920"/>
            <a:ext cx="7746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Information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24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is approved and represents actual economic events an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cash receipts input into the process supported by valid/authorized customer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all valid events or objects be captured and entered into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valid customer payment captured on a customer remittance advice (RA) and entered into the proc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events be correctly captured and entered into the system (correc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s correct payment amount and customer number on the R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s the correct payment amount and customer number keyed into the syst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8C2-B39F-4A68-8FA7-150CF30472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5760" y="88920"/>
            <a:ext cx="7746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Information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3480" y="914040"/>
            <a:ext cx="8521560" cy="53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Update Information Process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new data (from Input’s) with existing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ll events entered into the computer are reflected in their respective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input cash receipts recorded in the AR master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data entered into a computer are reflected correctly in their respective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input cash receipts correctly recorded in the AR master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n Real-Time Processing Enviro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C14-FDDA-4612-8C11-DE973F384D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Master Update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917640"/>
            <a:ext cx="8001000" cy="56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3BC-F6B9-451B-B7C7-586C529479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ntrol Goals Map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1D3-E466-49B9-9611-6A6F856ED7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nox Company Systems Flowchart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914400"/>
          <a:ext cx="783936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83936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1DC-CF0E-49C0-BB02-6FE428528E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trol Goals for the Lenox Cash Receipts Proces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00200" y="2133720"/>
          <a:ext cx="6059520" cy="3228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  <a:gridCol w="912960"/>
                <a:gridCol w="996840"/>
                <a:gridCol w="542880"/>
                <a:gridCol w="542880"/>
                <a:gridCol w="549360"/>
                <a:gridCol w="549360"/>
                <a:gridCol w="739800"/>
              </a:tblGrid>
              <a:tr h="2610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Lenox Cash Receipts Busines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ment of resources (e.g., people and comput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(e.g., checks and AR master dat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he remittance advice inputs, ens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he AR master data, ens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46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5410080"/>
          <a:ext cx="6056280" cy="853920"/>
        </p:xfrm>
        <a:graphic>
          <a:graphicData uri="http://schemas.openxmlformats.org/drawingml/2006/table">
            <a:tbl>
              <a:tblPr/>
              <a:tblGrid>
                <a:gridCol w="4394160"/>
                <a:gridCol w="16621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ness goals includ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– Timely deposit of che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– Comply with compensating balance agreements with the depository b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= Input valid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 = Input complet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 = Input accu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 = Update complet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 = Update accu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545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6A6-1D4F-4571-838E-435922472A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usiness Process Control Pla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iness Process Control Pl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eflect information processing policies and procedures that assist in accomplishing contro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ol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act that the control environment appears at the top of the hierarchy illustrates that the control environment comprises a multitude of factors that can either reinforce or mitigate the effectiveness of the pervasive and application control p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vasive control pla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o a multitude of goal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the control environment, they provide a climate or set of surrounding conditions in which the various business processes op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broad in scope and apply equally to all business processes, hence th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v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process control pla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o those controls particular to a specific process or subsystem, such as billing or cash receipts, or to a particular technology used to process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CBE-6004-4D28-A70B-047F842685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153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E75-65E9-49B7-B744-345076AEFA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64880"/>
            <a:ext cx="868680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ther Classifications of Control Pla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ive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 is prevented from occurring – cash receipts are immediately deposited to avoid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ctive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 is discovered – unauthorized disbursement is discovered during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ive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 is corrected – erroneous data is entered in the system and reported on an error and summary report; a clerk re-enters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C20-5E91-4E1E-9ACE-8D7B07E8D6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Organizational Governanc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Proces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ocesses necessary to Achiev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Intern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ECD-0184-421B-A30E-4D2477880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: Objective Setting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371600"/>
            <a:ext cx="7848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ission, vision, purpose: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e.g., to be the leading producer of household products in the regions in which we op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337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971800"/>
            <a:ext cx="19051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, to be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op quartil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duct sales for retailers of ou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971800"/>
            <a:ext cx="190476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, expand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f our top-five selling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ducts to meet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971800"/>
            <a:ext cx="236232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objective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rease production of x by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re 180 qualified new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intain produc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400000">
            <a:off x="2476440" y="35431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0958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Adapted from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nterprise Risk Management—Integrated Framework, Application Techniq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p. 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5219640" y="3542760"/>
            <a:ext cx="304920" cy="838440"/>
          </a:xfrm>
          <a:prstGeom prst="upDownArrow">
            <a:avLst>
              <a:gd name="adj1" fmla="val 50000"/>
              <a:gd name="adj2" fmla="val 5473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812-3C18-4020-B6E0-CC64095530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Enterprise Risk Managemen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Process for Creating Organization Objectives (i.e. Govern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of Director, Management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vents that might eff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risk associated with thes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13A-ADA9-4199-BA8F-FBB5C7815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formulated 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, ethical values, risk, risk appetite, oversight functions, organization design, authority and responsibilities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which potential events can not b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, Reporting and Compliance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Opportunities that can effect th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– Assessment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 – Feedback to Objective Set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824-284D-449C-8168-7A906F6ABA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a risk on a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– Probability that the risk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- $ Effect of the risk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66D-C9A1-47AB-907A-5E800495E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k vs. Exposur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annual dollar loss that would occur (i.e., the impact) should a costly event, say a destructive fire, take place. For argument sake, say that the estimated lo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$1,000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annual probability that the event will occur (i.e., the likelihood). Suppose the estimat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per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item 1 by item 2 to get an initi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cted gross ri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ss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$50,000 (–$1,000,000 × 0.05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is the maximum amount or upper limit that should be paid for controls and the related risk reduction offered by such controls, in a given year. Next, we illustrate a recommendation plan using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, a fire insurance policy, and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, a sprinkl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the company would pa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uall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of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re insurance polic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duced risk exposure due to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e estimated monetary damage remains at $1 million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ss risk (loss) remains at –$50,000, because there is still a 5 percent chance that a fire could occur. But, the compan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dual expected 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osure is now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$3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–$50,000 + ($20,000 – $1,000)]. O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ss is reduced by the amount of the insurance policy (less the cost of the polic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AE4-DE13-49B0-9D4A-409496F5D5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5:12:36Z</dcterms:created>
  <dc:creator>Curt Westbrook</dc:creator>
  <dc:description/>
  <dc:language>en-US</dc:language>
  <cp:lastModifiedBy>College of Business Administration</cp:lastModifiedBy>
  <cp:lastPrinted>2001-02-26T02:04:17Z</cp:lastPrinted>
  <dcterms:modified xsi:type="dcterms:W3CDTF">2007-09-17T13:49:52Z</dcterms:modified>
  <cp:revision>55</cp:revision>
  <dc:subject/>
  <dc:title>Chapter 7</dc:title>
</cp:coreProperties>
</file>